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845D-A7AD-40BF-8EC9-05B24FF99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9BB8-CB6D-49D8-818D-10262A76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C31C-D2B9-49AC-B622-F756D10F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5854-1094-4C57-BC96-FFA8FB16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9C06-DA40-4C63-B667-BADDF79E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836B-7CDB-4EEC-BCF8-5D3D0C60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24A5-A6BC-44E8-A41F-6C04B094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0B3D-916B-4074-900A-F80055A1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9D98-F024-4595-9604-757AFA7C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FBE3-520A-4D3B-B25A-C3C3B28A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DCD3-04E0-4E78-B707-9F8F0313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D031-6AF0-426C-A5E6-1811C3EA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50E1-F049-45D1-AC18-BEA6590F6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380880"/>
            <a:ext cx="66722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Finding Unit Pri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82880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Unit Price: </a:t>
            </a: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   Price per I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Microsoft Sans Serif"/>
              </a:rPr>
              <a:t>Measure or Count of I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17524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2590920"/>
            <a:ext cx="6019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4495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crosoft Sans Serif"/>
              </a:rPr>
              <a:t>Allows shoppers to compare the prices of items quickly and eas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aper%20plates%20ad%202" descr=""/>
          <p:cNvPicPr/>
          <p:nvPr/>
        </p:nvPicPr>
        <p:blipFill>
          <a:blip r:embed="rId1"/>
          <a:stretch/>
        </p:blipFill>
        <p:spPr>
          <a:xfrm>
            <a:off x="0" y="228600"/>
            <a:ext cx="4419720" cy="2379600"/>
          </a:xfrm>
          <a:prstGeom prst="rect">
            <a:avLst/>
          </a:prstGeom>
          <a:ln w="0">
            <a:noFill/>
          </a:ln>
        </p:spPr>
      </p:pic>
      <p:pic>
        <p:nvPicPr>
          <p:cNvPr id="105" name="paper%20plates%20ad" descr=""/>
          <p:cNvPicPr/>
          <p:nvPr/>
        </p:nvPicPr>
        <p:blipFill>
          <a:blip r:embed="rId2"/>
          <a:stretch/>
        </p:blipFill>
        <p:spPr>
          <a:xfrm>
            <a:off x="4800600" y="152280"/>
            <a:ext cx="4343400" cy="2401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8600" y="2895480"/>
            <a:ext cx="403848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Dixie 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$2.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24 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Unit Price (per plate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2895480"/>
            <a:ext cx="403884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Hefty 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2 for $4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50 count (each pkg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Unit Price (per plate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5638680"/>
            <a:ext cx="8534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ich is the better buy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24080" y="228600"/>
            <a:ext cx="403884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Chee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3 for $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13.75 oz. bo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Unit Price (per oz.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3276720"/>
            <a:ext cx="403884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Chee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3 for $7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15 oz. bo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Unit Price (per oz.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6019920"/>
            <a:ext cx="8534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ich is the better buy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2" name="cheerios%20ad" descr=""/>
          <p:cNvPicPr/>
          <p:nvPr/>
        </p:nvPicPr>
        <p:blipFill>
          <a:blip r:embed="rId1"/>
          <a:stretch/>
        </p:blipFill>
        <p:spPr>
          <a:xfrm>
            <a:off x="152280" y="0"/>
            <a:ext cx="2665440" cy="3048120"/>
          </a:xfrm>
          <a:prstGeom prst="rect">
            <a:avLst/>
          </a:prstGeom>
          <a:ln w="0">
            <a:noFill/>
          </a:ln>
        </p:spPr>
      </p:pic>
      <p:pic>
        <p:nvPicPr>
          <p:cNvPr id="113" name="cheerios%202" descr=""/>
          <p:cNvPicPr/>
          <p:nvPr/>
        </p:nvPicPr>
        <p:blipFill>
          <a:blip r:embed="rId2"/>
          <a:stretch/>
        </p:blipFill>
        <p:spPr>
          <a:xfrm>
            <a:off x="76320" y="3352680"/>
            <a:ext cx="3276360" cy="2349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5943600" y="0"/>
            <a:ext cx="26575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enuardi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2590920"/>
            <a:ext cx="28195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iant Food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to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514600" y="304920"/>
            <a:ext cx="2286000" cy="439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Genuardi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Gato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10 for $10 + 2 f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32 oz. bott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Unit Price (per oz.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2773440"/>
            <a:ext cx="4038840" cy="311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Giant Food S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Gato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8 pack for $5.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20 oz. bott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Unit Price (per oz.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880" y="5943600"/>
            <a:ext cx="8534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ich is the better buy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gatorade%202" descr=""/>
          <p:cNvPicPr/>
          <p:nvPr/>
        </p:nvPicPr>
        <p:blipFill>
          <a:blip r:embed="rId1"/>
          <a:stretch/>
        </p:blipFill>
        <p:spPr>
          <a:xfrm>
            <a:off x="0" y="152280"/>
            <a:ext cx="2432160" cy="4267440"/>
          </a:xfrm>
          <a:prstGeom prst="rect">
            <a:avLst/>
          </a:prstGeom>
          <a:ln w="0">
            <a:noFill/>
          </a:ln>
        </p:spPr>
      </p:pic>
      <p:pic>
        <p:nvPicPr>
          <p:cNvPr id="120" name="gatorade%20ad" descr=""/>
          <p:cNvPicPr/>
          <p:nvPr/>
        </p:nvPicPr>
        <p:blipFill>
          <a:blip r:embed="rId2"/>
          <a:stretch/>
        </p:blipFill>
        <p:spPr>
          <a:xfrm>
            <a:off x="5029200" y="0"/>
            <a:ext cx="372420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380880"/>
            <a:ext cx="83055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Genuardi’s sells 3 different sizes of mayonnaise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mall (10 oz.)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r $2.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ormal size (15 oz.)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r $2.6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ig Container (22 oz.)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r $3.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Which one is the better bu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aper%20towel%20ad" descr=""/>
          <p:cNvPicPr/>
          <p:nvPr/>
        </p:nvPicPr>
        <p:blipFill>
          <a:blip r:embed="rId1"/>
          <a:stretch/>
        </p:blipFill>
        <p:spPr>
          <a:xfrm>
            <a:off x="0" y="0"/>
            <a:ext cx="3716280" cy="3854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114800" y="3049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9880" y="457200"/>
            <a:ext cx="548640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Sans Serif"/>
              </a:rPr>
              <a:t>Genuardi’s has these paper towels on sale, 8 rolls for $5.99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Sans Serif"/>
              </a:rPr>
              <a:t>However they also sell another larger package, 24 rolls for $16.99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Sans Serif"/>
              </a:rPr>
              <a:t>You want to buy these since they are on sale, but which is actually the better bu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aper%20towel%20ad" descr=""/>
          <p:cNvPicPr/>
          <p:nvPr/>
        </p:nvPicPr>
        <p:blipFill>
          <a:blip r:embed="rId1"/>
          <a:stretch/>
        </p:blipFill>
        <p:spPr>
          <a:xfrm>
            <a:off x="566640" y="1219320"/>
            <a:ext cx="2938680" cy="3047760"/>
          </a:xfrm>
          <a:prstGeom prst="rect">
            <a:avLst/>
          </a:prstGeom>
          <a:ln w="0">
            <a:noFill/>
          </a:ln>
        </p:spPr>
      </p:pic>
      <p:pic>
        <p:nvPicPr>
          <p:cNvPr id="126" name="paper%20towels%202" descr=""/>
          <p:cNvPicPr/>
          <p:nvPr/>
        </p:nvPicPr>
        <p:blipFill>
          <a:blip r:embed="rId2"/>
          <a:stretch/>
        </p:blipFill>
        <p:spPr>
          <a:xfrm>
            <a:off x="4267080" y="1295280"/>
            <a:ext cx="4629240" cy="2511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4920" y="4343400"/>
            <a:ext cx="86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Sans Serif"/>
              </a:rPr>
              <a:t>Now you want to compare these two brands, which are both on sale.  You have determined that you want 8 rolls of paper towels.  Which brand will you bu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76320"/>
            <a:ext cx="3733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ounty: 8 ro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$5.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76920" y="76320"/>
            <a:ext cx="3809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hirsty: 2 ro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$2.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water%202" descr=""/>
          <p:cNvPicPr/>
          <p:nvPr/>
        </p:nvPicPr>
        <p:blipFill>
          <a:blip r:embed="rId1"/>
          <a:stretch/>
        </p:blipFill>
        <p:spPr>
          <a:xfrm>
            <a:off x="76320" y="0"/>
            <a:ext cx="2877840" cy="37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1" name="water%20ad" descr=""/>
          <p:cNvPicPr/>
          <p:nvPr/>
        </p:nvPicPr>
        <p:blipFill>
          <a:blip r:embed="rId2"/>
          <a:stretch/>
        </p:blipFill>
        <p:spPr>
          <a:xfrm>
            <a:off x="76320" y="3809880"/>
            <a:ext cx="4105080" cy="297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3352680" y="152280"/>
            <a:ext cx="518184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urier New"/>
              </a:rPr>
              <a:t>Aquafina: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24 p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$3.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16.9 oz. bott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3581280"/>
            <a:ext cx="441936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urier New"/>
              </a:rPr>
              <a:t>Deer Park: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12 p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$2.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12 oz. bott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60948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Genuardi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Unit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4572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30492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1337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518148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30492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85800"/>
            <a:ext cx="1371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P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1240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Cereal</a:t>
            </a: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562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Coff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aper%20plates%20ad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2819160" cy="1558800"/>
          </a:xfrm>
          <a:prstGeom prst="rect">
            <a:avLst/>
          </a:prstGeom>
          <a:ln w="0">
            <a:noFill/>
          </a:ln>
        </p:spPr>
      </p:pic>
      <p:pic>
        <p:nvPicPr>
          <p:cNvPr id="58" name="coffee%20ad" descr=""/>
          <p:cNvPicPr/>
          <p:nvPr/>
        </p:nvPicPr>
        <p:blipFill>
          <a:blip r:embed="rId2"/>
          <a:stretch/>
        </p:blipFill>
        <p:spPr>
          <a:xfrm>
            <a:off x="1219320" y="5218200"/>
            <a:ext cx="2971800" cy="1563480"/>
          </a:xfrm>
          <a:prstGeom prst="rect">
            <a:avLst/>
          </a:prstGeom>
          <a:ln w="0">
            <a:noFill/>
          </a:ln>
        </p:spPr>
      </p:pic>
      <p:pic>
        <p:nvPicPr>
          <p:cNvPr id="59" name="cheerios%20ad" descr=""/>
          <p:cNvPicPr/>
          <p:nvPr/>
        </p:nvPicPr>
        <p:blipFill>
          <a:blip r:embed="rId3"/>
          <a:stretch/>
        </p:blipFill>
        <p:spPr>
          <a:xfrm>
            <a:off x="1219320" y="2514600"/>
            <a:ext cx="1962000" cy="2133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343400" y="457200"/>
            <a:ext cx="426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t Price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$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 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77120" y="137160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48320" y="16002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$0.40 per 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2133720"/>
            <a:ext cx="3581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t Price =          $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 o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3048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$0.22 per o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27432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639960"/>
            <a:ext cx="4190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t Price =        $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.75 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47242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$0.15 per o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41148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95680" y="35812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01000" y="2185920"/>
            <a:ext cx="1066680" cy="1015920"/>
          </a:xfrm>
          <a:prstGeom prst="rect">
            <a:avLst/>
          </a:prstGeom>
          <a:noFill/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Microsoft Sans Serif"/>
              </a:rPr>
              <a:t>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Microsoft Sans Serif"/>
              </a:rPr>
              <a:t>9 o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96080" y="3633840"/>
            <a:ext cx="1447920" cy="1015920"/>
          </a:xfrm>
          <a:prstGeom prst="rect">
            <a:avLst/>
          </a:prstGeom>
          <a:noFill/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Microsoft Sans Serif"/>
              </a:rPr>
              <a:t>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Microsoft Sans Serif"/>
              </a:rPr>
              <a:t>13.75 o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shoprite%20ad%202" descr=""/>
          <p:cNvPicPr/>
          <p:nvPr/>
        </p:nvPicPr>
        <p:blipFill>
          <a:blip r:embed="rId1"/>
          <a:stretch/>
        </p:blipFill>
        <p:spPr>
          <a:xfrm>
            <a:off x="0" y="-152280"/>
            <a:ext cx="6273720" cy="7296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43000" y="1066680"/>
            <a:ext cx="4114800" cy="22860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4267080"/>
            <a:ext cx="2286000" cy="12193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5880" y="76320"/>
            <a:ext cx="3048120" cy="374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nnon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2 pack for $4.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much per bott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each bottle is 16.9 oz., how much per oz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5880" y="4154400"/>
            <a:ext cx="3048120" cy="267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ada Dry Ginger 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 packs, 3 for $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much per c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76320" y="228600"/>
            <a:ext cx="6096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hop Rite Supermarkets</a:t>
            </a:r>
            <a:endParaRPr b="0" i="1" lang="en-US" sz="2400" spc="1" strike="noStrike">
              <a:ln w="19080">
                <a:solidFill>
                  <a:srgbClr val="000099"/>
                </a:solidFill>
                <a:miter/>
              </a:ln>
              <a:solidFill>
                <a:srgbClr val="66ff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water%20ad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4114800" cy="298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4343400" y="152280"/>
            <a:ext cx="3657600" cy="311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r Park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 pack for $2.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ch bottle is 12 o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much per bott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much per oz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tea%20ad" descr=""/>
          <p:cNvPicPr/>
          <p:nvPr/>
        </p:nvPicPr>
        <p:blipFill>
          <a:blip r:embed="rId2"/>
          <a:stretch/>
        </p:blipFill>
        <p:spPr>
          <a:xfrm>
            <a:off x="76320" y="3940200"/>
            <a:ext cx="3962160" cy="284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4191120" y="4343400"/>
            <a:ext cx="388620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a B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ckage of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boxes for $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much per tea ba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191120" y="3352680"/>
            <a:ext cx="4610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iant Food Stores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808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oke%20ad" descr=""/>
          <p:cNvPicPr/>
          <p:nvPr/>
        </p:nvPicPr>
        <p:blipFill>
          <a:blip r:embed="rId1"/>
          <a:stretch/>
        </p:blipFill>
        <p:spPr>
          <a:xfrm>
            <a:off x="228600" y="162000"/>
            <a:ext cx="4572000" cy="2295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952880" y="76320"/>
            <a:ext cx="3810240" cy="311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k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liter bott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for $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much per li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much per bott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gatorade%20ad" descr=""/>
          <p:cNvPicPr/>
          <p:nvPr/>
        </p:nvPicPr>
        <p:blipFill>
          <a:blip r:embed="rId2"/>
          <a:stretch/>
        </p:blipFill>
        <p:spPr>
          <a:xfrm>
            <a:off x="228600" y="4038480"/>
            <a:ext cx="3429000" cy="2509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62520" y="3276720"/>
            <a:ext cx="4876560" cy="354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tor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 pack for $5.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 oz to 20 oz bott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much per bott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much per oz (for each size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otato%20chip%20ad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4572000" cy="2390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029200" y="0"/>
            <a:ext cx="3962520" cy="329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ffles Potato C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bags for $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.5 to 20 o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much per oz for each size ba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reyers%20ad" descr=""/>
          <p:cNvPicPr/>
          <p:nvPr/>
        </p:nvPicPr>
        <p:blipFill>
          <a:blip r:embed="rId2"/>
          <a:stretch/>
        </p:blipFill>
        <p:spPr>
          <a:xfrm>
            <a:off x="152280" y="3124080"/>
            <a:ext cx="3057480" cy="3429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352680" y="3341520"/>
            <a:ext cx="4572000" cy="354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eyers Ice C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y one get one f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5.79 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75 qt. Co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much per q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ranges" descr=""/>
          <p:cNvPicPr/>
          <p:nvPr/>
        </p:nvPicPr>
        <p:blipFill>
          <a:blip r:embed="rId1"/>
          <a:stretch/>
        </p:blipFill>
        <p:spPr>
          <a:xfrm>
            <a:off x="441360" y="6480"/>
            <a:ext cx="3110040" cy="3651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38080" y="3657600"/>
            <a:ext cx="243864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Sans Serif"/>
              </a:rPr>
              <a:t>Orang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Sans Serif"/>
              </a:rPr>
              <a:t>4 lb. Ba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Sans Serif"/>
              </a:rPr>
              <a:t>$2.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Sans Serif"/>
              </a:rPr>
              <a:t>Unit Pric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m&amp;ms" descr=""/>
          <p:cNvPicPr/>
          <p:nvPr/>
        </p:nvPicPr>
        <p:blipFill>
          <a:blip r:embed="rId2"/>
          <a:stretch/>
        </p:blipFill>
        <p:spPr>
          <a:xfrm>
            <a:off x="5105520" y="0"/>
            <a:ext cx="3030480" cy="3962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724280" y="4191120"/>
            <a:ext cx="4724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Sans Serif"/>
              </a:rPr>
              <a:t>M &amp; M’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Sans Serif"/>
              </a:rPr>
              <a:t>14 oz. Bag for $2.6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Sans Serif"/>
              </a:rPr>
              <a:t>Unit Pric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495680" y="0"/>
            <a:ext cx="0" cy="5638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detergent%201" descr=""/>
          <p:cNvPicPr/>
          <p:nvPr/>
        </p:nvPicPr>
        <p:blipFill>
          <a:blip r:embed="rId1"/>
          <a:stretch/>
        </p:blipFill>
        <p:spPr>
          <a:xfrm>
            <a:off x="76320" y="0"/>
            <a:ext cx="4343400" cy="2301840"/>
          </a:xfrm>
          <a:prstGeom prst="rect">
            <a:avLst/>
          </a:prstGeom>
          <a:ln w="0">
            <a:noFill/>
          </a:ln>
        </p:spPr>
      </p:pic>
      <p:pic>
        <p:nvPicPr>
          <p:cNvPr id="97" name="detergent%202" descr=""/>
          <p:cNvPicPr/>
          <p:nvPr/>
        </p:nvPicPr>
        <p:blipFill>
          <a:blip r:embed="rId2"/>
          <a:stretch/>
        </p:blipFill>
        <p:spPr>
          <a:xfrm>
            <a:off x="5181480" y="0"/>
            <a:ext cx="3429000" cy="2894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6320" y="2362320"/>
            <a:ext cx="43434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Sans Serif"/>
              </a:rPr>
              <a:t>Safeway Select Deterg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Sans Serif"/>
              </a:rPr>
              <a:t>300 o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Sans Serif"/>
              </a:rPr>
              <a:t>$10.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Sans Serif"/>
              </a:rPr>
              <a:t>What is the Unit Pr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2819520"/>
            <a:ext cx="46483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Sans Serif"/>
              </a:rPr>
              <a:t>Wisk Laundry Deterg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Sans Serif"/>
              </a:rPr>
              <a:t>100 o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Sans Serif"/>
              </a:rPr>
              <a:t>$4.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Sans Serif"/>
              </a:rPr>
              <a:t>What is the Unit Pr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6386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62120" y="5867280"/>
            <a:ext cx="7619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at is the better buy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52280"/>
            <a:ext cx="8305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parison Shopping: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nding the Better Buy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2066760"/>
            <a:ext cx="91440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Finding the Better Buy” is determining which size, store, or deal will give you the most product for your m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We use Unit Prices to compare product sizes to find the better bu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We also use Unit Prices to determine which store or deal will give us the better bu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2:58:51Z</dcterms:created>
  <dc:creator>Teacher</dc:creator>
  <dc:description/>
  <dc:language>en-US</dc:language>
  <cp:lastModifiedBy>Teacher</cp:lastModifiedBy>
  <dcterms:modified xsi:type="dcterms:W3CDTF">2005-04-26T18:33:51Z</dcterms:modified>
  <cp:revision>7</cp:revision>
  <dc:subject/>
  <dc:title>PowerPoint Presentation</dc:title>
</cp:coreProperties>
</file>